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D127-5A17-4E3E-BA8F-D5CBDA34CA1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4684-7959-403C-9FE4-EDFB0E98F13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9:56Z</dcterms:modified>
  <cp:revision>113</cp:revision>
  <dc:subject/>
  <dc:title>スライド 1</dc:title>
</cp:coreProperties>
</file>